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6317-24A5-4E8F-A12F-373E174E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3EC9-2D4C-49F9-B3E9-80F346BD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1F73-8CC7-4771-9DAB-309B1AEA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E08C-B454-4336-818D-C13E656F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E9A6-E071-45A9-89DA-E2128525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C796-FB0B-48B3-8708-534263CD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93BE-14BB-4098-82E1-BCCF8DF7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884C-63AA-49A6-B692-464AAF52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A291-5730-435D-8D5A-73FD934F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4EB0-CB38-4947-BB25-C21753C2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7906-9412-4DC1-9DC3-0BD472A4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F113-6102-4916-8715-210C5D8F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C932-AC72-43E3-B5D0-F0810334E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82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ost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mes reduce to m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ost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com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619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2 + vi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6250 + br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6275 + 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OLD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T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619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3 and suc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old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62280"/>
            <a:ext cx="822960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martphone (exit seg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term challenge, no good way to low  cost UM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problems with software features in  mid-term (price press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n-house ultra low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ping 2G feature phones to focus on 3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2:42:37Z</dcterms:created>
  <dc:creator>Dingle Rick</dc:creator>
  <dc:description/>
  <dc:language>en-US</dc:language>
  <cp:lastModifiedBy>Dingle Rick</cp:lastModifiedBy>
  <dcterms:modified xsi:type="dcterms:W3CDTF">2004-12-03T12:44:28Z</dcterms:modified>
  <cp:revision>1</cp:revision>
  <dc:subject/>
  <dc:title>Cost Reduction</dc:title>
</cp:coreProperties>
</file>